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8.png" ContentType="image/png"/>
  <Override PartName="/ppt/media/image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19.png" ContentType="image/png"/>
  <Override PartName="/ppt/media/image2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A1F8-69D4-42DB-8BD1-EDC922D57A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0BA1-B4C6-4641-8FC7-196FCBD1F11E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BC3D-F443-4286-BF68-6FF22F31AA51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3185-1B02-47E3-B48E-61A88E49BAB5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F720-B7E5-457C-A364-860324FAFAB7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8C93-488A-47BB-AB6E-ED6B1B072451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8F7-3B05-4AEF-A8F2-029B7C4E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1CE-A8AE-43EA-8C38-540547EF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E390-BEF7-443E-8AE9-0C458F2B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E11-DD09-417F-ACCD-7814EBE4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0F1CA-A938-4159-8BD3-FD30EE83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28CD6-BD38-44F6-BA07-D26380D6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B5014-AEC8-4FF5-BBF9-5FBDBADC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E0A28-5FB6-475B-9D4D-980CD98D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8B5A4-EC45-4CD0-BBA6-96A0B639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761F6-A7AC-40EC-8F6C-096A707F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F66FF-25D5-4704-97AE-058B7C3C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173A-5A3E-482C-A75F-6CF9EEF1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404C4-0AFB-41E2-9E1C-2220535D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0A9DC-A7AB-4D9F-BE8E-9D952659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61CF1-6B29-4E4C-AE01-4A57DB3A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E8F31-E935-48C0-B59F-A0B5AEEF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5AACE-779A-46F6-8C39-030105C2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A2372-C651-4A0E-BC08-D057E30C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7F4B6-3AC6-4833-A0E6-6F6A0FDE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A25AC-6661-494B-BD7F-A115227D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CCDF5-591E-49AC-B47A-8AAEC634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953EB-20D1-46ED-B254-91DE2C6F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6AF-C9C8-41F1-AC90-A304859E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DDBE0-2023-459D-9709-5FC9265B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F1A6E-2690-427D-9678-E6CC191B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B7F96-DBC7-4409-8814-92D694D6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C2C20-B2DA-441C-BA1D-3CCFFB73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E04CB-3FF0-4E90-9B9C-7C519E47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DEE30-5C11-4427-AD3A-EE34EA0B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BAA64-C588-4E1F-9863-9964E4FB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BD572F-8134-4E2A-9BD2-4A8C0C94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DE1FF8-9D42-4D45-A29F-39E9C8D5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1C7854-E1A5-476F-A78A-A7DA0B6F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F9D8-6120-4295-868B-3A884D1C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0A83E6-E87D-4A5D-A4F1-3CC08A5B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C8F996-31EF-427B-8163-667CDE45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482ECE-1968-461B-BF2F-59BB2A0F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338D2C-7392-4FAD-879C-20F0B68D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B1940C-8E70-467E-8D32-EF603639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7000D2-A7F4-4F6D-89CE-3F1909A6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567F61-0B4B-4DE5-A30A-088649D3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1EA4A1-C497-41FB-A8CF-E8479F64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CBA377-8D70-4640-A566-B827DC74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A2B3BC-A42E-42C8-83D7-159B0A3D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E8A-9434-42D0-99D3-72570453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CFCC6E-7A49-4AB4-9F32-5D3D9C23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302156-9B74-458B-A3A8-B0ADF856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5262DE-0FEF-4748-B874-0A1DE80F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7C98ED-DADB-4EA7-92DC-A1598A7D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A502BC-A87F-41EE-8659-BEBF4761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67685-59B9-45AC-97D4-7F6D2410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D6CD8-60CB-4562-AA48-13EF03D1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F7D91A-DD53-4B2B-8652-B9643BA0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D96403-AEF2-4C38-A33D-AFDD6A0D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A1F20-6938-4E13-9D79-2BFDAF26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B26-80B4-43F2-8E20-2C820BC2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7BD31E-E1A5-4EDC-B603-393E4F9F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98C2A4-67E7-42AC-936A-003A3744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3B188F-A1BA-43F8-BF22-774A8399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536E66-2CC7-49D0-9371-09507811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5D3D00-3C78-4072-B451-320FFDBC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60ABDA-E722-4181-974D-89AE5CC4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91ED79-C67E-4ADF-8E61-B927DCA1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C14D07-D381-4C98-9235-BE698F3E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4EF3F9-5001-45BE-9D1F-AB20F6E5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08ED5F-9DEF-4A34-8AFE-1C122CB6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502-6395-434F-B09E-E9DC8EB8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288AC-1980-4470-905E-71AC2B14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30577-FC9B-41A8-8A51-055639EB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39D464-67B2-4A09-834C-9014AF78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F6A-DE1A-4298-8633-9B7D98CE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5986-D218-46C7-8433-17FE1D18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7A71-F1C9-457C-BC5A-4A8250B91379}" type="slidenum">
              <a:rPr b="0" lang="en-A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6D5E-CEC6-4B06-B4D1-8CE0E3862722}" type="slidenum">
              <a:rPr b="0" lang="en-A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AB56-07DC-45B3-997D-CB107574A124}" type="slidenum">
              <a:rPr b="0" lang="en-A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D3A2-0304-47A7-BBEA-9EBB6ED9E23F}" type="slidenum">
              <a:rPr b="0" lang="en-A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A483-F662-4057-B74D-E16443389D61}" type="slidenum">
              <a:rPr b="0" lang="en-A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526B-F0C6-41FA-B78F-CA0C65A5104D}" type="slidenum">
              <a:rPr b="0" lang="en-A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4.jpeg"/><Relationship Id="rId4" Type="http://schemas.openxmlformats.org/officeDocument/2006/relationships/image" Target="../media/image27.jpe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2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ttp://embode.files.wordpress.com/2008/11/the_eye_of_horus2.jpg"/>
          <p:cNvPicPr/>
          <p:nvPr/>
        </p:nvPicPr>
        <p:blipFill>
          <a:blip r:embed="rId2"/>
          <a:stretch/>
        </p:blipFill>
        <p:spPr>
          <a:xfrm>
            <a:off x="6804000" y="333360"/>
            <a:ext cx="19922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2" descr=""/>
          <p:cNvPicPr/>
          <p:nvPr/>
        </p:nvPicPr>
        <p:blipFill>
          <a:blip r:embed="rId1"/>
          <a:stretch/>
        </p:blipFill>
        <p:spPr>
          <a:xfrm>
            <a:off x="341280" y="36360"/>
            <a:ext cx="8454960" cy="14446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onstantia"/>
              </a:rPr>
              <a:t>Nernst – Artificial Membran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efac9"/>
                </a:solidFill>
                <a:latin typeface="Constantia"/>
              </a:rPr>
              <a:t>Diffusion of Ions </a:t>
            </a: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Is there a transport of water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onstantia"/>
              </a:rPr>
              <a:t>Stepper Motor – Servo Syste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efac9"/>
                </a:solidFill>
                <a:latin typeface="Constantia"/>
              </a:rPr>
              <a:t>Pusing in and pushing out fluid </a:t>
            </a: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onstantia"/>
              </a:rPr>
              <a:t>Voltage Clam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efac9"/>
                </a:solidFill>
                <a:latin typeface="Constantia"/>
              </a:rPr>
              <a:t>Using fixed voltage and determining how much to change to determine a transmission response </a:t>
            </a: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onstantia"/>
              </a:rPr>
              <a:t>Fluid Flow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efac9"/>
                </a:solidFill>
                <a:latin typeface="Constantia"/>
              </a:rPr>
              <a:t>Voltage Clamp</a:t>
            </a: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efac9"/>
                </a:solidFill>
                <a:latin typeface="Constantia"/>
              </a:rPr>
              <a:t>Chamber </a:t>
            </a: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Artificial Membran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sual method is to have a 2 mm diameter hole in teflon sheet between aqueous solutions.  Place 1 drop of (say) phospholipid in dodecane on hole and allow it to thin (as one would a soap bubble).  Eventually get an optically black lipid bilayer film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4" name="Title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pic>
        <p:nvPicPr>
          <p:cNvPr id="285" name="Title 2" descr=""/>
          <p:cNvPicPr/>
          <p:nvPr/>
        </p:nvPicPr>
        <p:blipFill>
          <a:blip r:embed="rId2"/>
          <a:stretch/>
        </p:blipFill>
        <p:spPr>
          <a:xfrm>
            <a:off x="317520" y="3638520"/>
            <a:ext cx="8461440" cy="1231920"/>
          </a:xfrm>
          <a:prstGeom prst="rect">
            <a:avLst/>
          </a:prstGeom>
          <a:ln w="0">
            <a:noFill/>
          </a:ln>
        </p:spPr>
      </p:pic>
      <p:sp>
        <p:nvSpPr>
          <p:cNvPr id="286" name="Content Placeholder 1"/>
          <p:cNvSpPr/>
          <p:nvPr/>
        </p:nvSpPr>
        <p:spPr>
          <a:xfrm>
            <a:off x="3059280" y="5300640"/>
            <a:ext cx="2387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Calib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BhartFig1.jpg"/>
          <p:cNvPicPr/>
          <p:nvPr/>
        </p:nvPicPr>
        <p:blipFill>
          <a:blip r:embed="rId2"/>
          <a:stretch/>
        </p:blipFill>
        <p:spPr>
          <a:xfrm>
            <a:off x="2411280" y="836640"/>
            <a:ext cx="6183360" cy="5545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IMG0174A.jpg"/>
          <p:cNvPicPr/>
          <p:nvPr/>
        </p:nvPicPr>
        <p:blipFill>
          <a:blip r:embed="rId3"/>
          <a:stretch/>
        </p:blipFill>
        <p:spPr>
          <a:xfrm>
            <a:off x="108000" y="335772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2556000" y="83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Stepper Motor – Servo Syste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Pushing in and pushing out fluid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2" name="Picture 2" descr="G:\IMG_1081.JPG"/>
          <p:cNvPicPr/>
          <p:nvPr/>
        </p:nvPicPr>
        <p:blipFill>
          <a:blip r:embed="rId2"/>
          <a:stretch/>
        </p:blipFill>
        <p:spPr>
          <a:xfrm>
            <a:off x="684360" y="170028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G:\IMG_1080.JPG"/>
          <p:cNvPicPr/>
          <p:nvPr/>
        </p:nvPicPr>
        <p:blipFill>
          <a:blip r:embed="rId3"/>
          <a:stretch/>
        </p:blipFill>
        <p:spPr>
          <a:xfrm>
            <a:off x="4643280" y="162864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G:\IMG_1079.JPG"/>
          <p:cNvPicPr/>
          <p:nvPr/>
        </p:nvPicPr>
        <p:blipFill>
          <a:blip r:embed="rId4"/>
          <a:srcRect l="18689" t="25233" r="17756" b="15885"/>
          <a:stretch/>
        </p:blipFill>
        <p:spPr>
          <a:xfrm>
            <a:off x="2916360" y="3716280"/>
            <a:ext cx="2376360" cy="293544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7"/>
          <p:cNvSpPr/>
          <p:nvPr/>
        </p:nvSpPr>
        <p:spPr>
          <a:xfrm>
            <a:off x="5508720" y="5661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Sensor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7380360" y="58770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Engineered by Davi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G:\IMG_1077.JPG"/>
          <p:cNvPicPr/>
          <p:nvPr/>
        </p:nvPicPr>
        <p:blipFill>
          <a:blip r:embed="rId2"/>
          <a:stretch/>
        </p:blipFill>
        <p:spPr>
          <a:xfrm>
            <a:off x="684360" y="1557360"/>
            <a:ext cx="6696000" cy="502128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6"/>
          <p:cNvSpPr/>
          <p:nvPr/>
        </p:nvSpPr>
        <p:spPr>
          <a:xfrm>
            <a:off x="7380360" y="58770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Engineered by Davi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132000" y="76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Stepper Motor – Servo Syste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Pusing in and pushing out fluid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179520" cy="1746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G:\IMG_1080.JPG"/>
          <p:cNvPicPr/>
          <p:nvPr/>
        </p:nvPicPr>
        <p:blipFill>
          <a:blip r:embed="rId3"/>
          <a:stretch/>
        </p:blipFill>
        <p:spPr>
          <a:xfrm>
            <a:off x="4788000" y="12682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G:\IMG_1077.JPG"/>
          <p:cNvPicPr/>
          <p:nvPr/>
        </p:nvPicPr>
        <p:blipFill>
          <a:blip r:embed="rId4"/>
          <a:stretch/>
        </p:blipFill>
        <p:spPr>
          <a:xfrm>
            <a:off x="755640" y="371628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5"/>
          <a:stretch/>
        </p:blipFill>
        <p:spPr>
          <a:xfrm>
            <a:off x="5435640" y="4076640"/>
            <a:ext cx="2900160" cy="2454480"/>
          </a:xfrm>
          <a:prstGeom prst="rect">
            <a:avLst/>
          </a:prstGeom>
          <a:ln w="0">
            <a:noFill/>
          </a:ln>
        </p:spPr>
      </p:pic>
      <p:pic>
        <p:nvPicPr>
          <p:cNvPr id="306" name="Straight Arrow Connector 9" descr=""/>
          <p:cNvPicPr/>
          <p:nvPr/>
        </p:nvPicPr>
        <p:blipFill>
          <a:blip r:embed="rId6"/>
          <a:stretch/>
        </p:blipFill>
        <p:spPr>
          <a:xfrm>
            <a:off x="3681360" y="2163600"/>
            <a:ext cx="1371600" cy="560520"/>
          </a:xfrm>
          <a:prstGeom prst="rect">
            <a:avLst/>
          </a:prstGeom>
          <a:ln w="0">
            <a:noFill/>
          </a:ln>
        </p:spPr>
      </p:pic>
      <p:pic>
        <p:nvPicPr>
          <p:cNvPr id="307" name="Straight Arrow Connector 10" descr=""/>
          <p:cNvPicPr/>
          <p:nvPr/>
        </p:nvPicPr>
        <p:blipFill>
          <a:blip r:embed="rId7"/>
          <a:stretch/>
        </p:blipFill>
        <p:spPr>
          <a:xfrm>
            <a:off x="3438360" y="2951280"/>
            <a:ext cx="816120" cy="888840"/>
          </a:xfrm>
          <a:prstGeom prst="rect">
            <a:avLst/>
          </a:prstGeom>
          <a:ln w="0">
            <a:noFill/>
          </a:ln>
        </p:spPr>
      </p:pic>
      <p:pic>
        <p:nvPicPr>
          <p:cNvPr id="308" name="Straight Arrow Connector 13" descr=""/>
          <p:cNvPicPr/>
          <p:nvPr/>
        </p:nvPicPr>
        <p:blipFill>
          <a:blip r:embed="rId8"/>
          <a:stretch/>
        </p:blipFill>
        <p:spPr>
          <a:xfrm>
            <a:off x="3949560" y="3017880"/>
            <a:ext cx="695520" cy="785880"/>
          </a:xfrm>
          <a:prstGeom prst="rect">
            <a:avLst/>
          </a:prstGeom>
          <a:ln w="0">
            <a:noFill/>
          </a:ln>
        </p:spPr>
      </p:pic>
      <p:pic>
        <p:nvPicPr>
          <p:cNvPr id="309" name="Straight Arrow Connector 15" descr=""/>
          <p:cNvPicPr/>
          <p:nvPr/>
        </p:nvPicPr>
        <p:blipFill>
          <a:blip r:embed="rId9"/>
          <a:stretch/>
        </p:blipFill>
        <p:spPr>
          <a:xfrm>
            <a:off x="1000080" y="2944800"/>
            <a:ext cx="695520" cy="785880"/>
          </a:xfrm>
          <a:prstGeom prst="rect">
            <a:avLst/>
          </a:prstGeom>
          <a:ln w="0">
            <a:noFill/>
          </a:ln>
        </p:spPr>
      </p:pic>
      <p:pic>
        <p:nvPicPr>
          <p:cNvPr id="310" name="Straight Arrow Connector 16" descr=""/>
          <p:cNvPicPr/>
          <p:nvPr/>
        </p:nvPicPr>
        <p:blipFill>
          <a:blip r:embed="rId10"/>
          <a:stretch/>
        </p:blipFill>
        <p:spPr>
          <a:xfrm>
            <a:off x="1279440" y="3097080"/>
            <a:ext cx="817560" cy="889200"/>
          </a:xfrm>
          <a:prstGeom prst="rect">
            <a:avLst/>
          </a:prstGeom>
          <a:ln w="0">
            <a:noFill/>
          </a:ln>
        </p:spPr>
      </p:pic>
      <p:pic>
        <p:nvPicPr>
          <p:cNvPr id="311" name="Straight Arrow Connector 17" descr=""/>
          <p:cNvPicPr/>
          <p:nvPr/>
        </p:nvPicPr>
        <p:blipFill>
          <a:blip r:embed="rId11"/>
          <a:stretch/>
        </p:blipFill>
        <p:spPr>
          <a:xfrm>
            <a:off x="3584520" y="1749600"/>
            <a:ext cx="878040" cy="529920"/>
          </a:xfrm>
          <a:prstGeom prst="rect">
            <a:avLst/>
          </a:prstGeom>
          <a:ln w="0">
            <a:noFill/>
          </a:ln>
        </p:spPr>
      </p:pic>
      <p:grpSp>
        <p:nvGrpSpPr>
          <p:cNvPr id="312" name="Equal 20"/>
          <p:cNvGrpSpPr/>
          <p:nvPr/>
        </p:nvGrpSpPr>
        <p:grpSpPr>
          <a:xfrm>
            <a:off x="4816440" y="4419720"/>
            <a:ext cx="590760" cy="469800"/>
            <a:chOff x="4816440" y="4419720"/>
            <a:chExt cx="590760" cy="469800"/>
          </a:xfrm>
        </p:grpSpPr>
        <p:pic>
          <p:nvPicPr>
            <p:cNvPr id="313" name="Equal 20" descr=""/>
            <p:cNvPicPr/>
            <p:nvPr/>
          </p:nvPicPr>
          <p:blipFill>
            <a:blip r:embed="rId12"/>
            <a:stretch/>
          </p:blipFill>
          <p:spPr>
            <a:xfrm>
              <a:off x="4816440" y="4419720"/>
              <a:ext cx="5907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927680" y="4525920"/>
              <a:ext cx="3697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4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655308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2" descr=""/>
          <p:cNvPicPr/>
          <p:nvPr/>
        </p:nvPicPr>
        <p:blipFill>
          <a:blip r:embed="rId1"/>
          <a:stretch/>
        </p:blipFill>
        <p:spPr>
          <a:xfrm>
            <a:off x="603360" y="-324000"/>
            <a:ext cx="8242200" cy="1231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1547640" y="1197000"/>
            <a:ext cx="6264360" cy="43020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6"/>
          <p:cNvSpPr/>
          <p:nvPr/>
        </p:nvSpPr>
        <p:spPr>
          <a:xfrm>
            <a:off x="1763640" y="5589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www.ahaf.org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Power (Diopters)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focal length (metre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1  D 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1  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2 D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.5 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Convex lens (has a positive power e.g +1.5 D) focal point forms convergent ligh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Concave lens (has negative power e.g -2D) focal point is traced back from diverging light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http://www.math.ubc.ca/~cass/courses/m309-01a/chu/MirrorsLenses/converge-diverge.gif"/>
          <p:cNvPicPr/>
          <p:nvPr/>
        </p:nvPicPr>
        <p:blipFill>
          <a:blip r:embed="rId1"/>
          <a:stretch/>
        </p:blipFill>
        <p:spPr>
          <a:xfrm>
            <a:off x="1979640" y="260280"/>
            <a:ext cx="4776840" cy="55450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4"/>
          <p:cNvSpPr/>
          <p:nvPr/>
        </p:nvSpPr>
        <p:spPr>
          <a:xfrm>
            <a:off x="1476360" y="5805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http://www.math.ubc.ca/~cass/courses/m309-01a/chu/MirrorsLenses/lenses.ht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http://www.sapdesignguild.org/editions/highlight_articles_01/images/accomodation.png"/>
          <p:cNvPicPr/>
          <p:nvPr/>
        </p:nvPicPr>
        <p:blipFill>
          <a:blip r:embed="rId2"/>
          <a:stretch/>
        </p:blipFill>
        <p:spPr>
          <a:xfrm>
            <a:off x="539640" y="1341360"/>
            <a:ext cx="7993080" cy="471024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971640" y="59342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http://www.sapdesignguild.org/editions/highlight_articles_01/images/accomodation.png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Emmetropia (normal vision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Myopia (short sightednes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efac9"/>
                </a:solidFill>
                <a:latin typeface="Constantia"/>
              </a:rPr>
              <a:t>Corrected with negative power len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Hyperopia ( Longsightness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efac9"/>
                </a:solidFill>
                <a:latin typeface="Constantia"/>
              </a:rPr>
              <a:t>Corrected with positive power glass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Presbyopia (age-related change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efac9"/>
                </a:solidFill>
                <a:latin typeface="Constantia"/>
              </a:rPr>
              <a:t>Range of accommodation depletion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8600">
              <a:lnSpc>
                <a:spcPct val="9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Constantia"/>
              </a:rPr>
              <a:t>Multifocal or bifocal lens correction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7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Errors of Refraction. "/>
          <p:cNvPicPr/>
          <p:nvPr/>
        </p:nvPicPr>
        <p:blipFill>
          <a:blip r:embed="rId2"/>
          <a:stretch/>
        </p:blipFill>
        <p:spPr>
          <a:xfrm>
            <a:off x="1187280" y="1268280"/>
            <a:ext cx="6121440" cy="45910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4"/>
          <p:cNvSpPr/>
          <p:nvPr/>
        </p:nvSpPr>
        <p:spPr>
          <a:xfrm>
            <a:off x="826920" y="587700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http://www.merckmanuals.com/professional/sec09/ch099/ch099a.htm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121440" cy="444024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1187280" y="5877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http://www.maculacenter.com/LightBox/glossaryImages/rpe.jpg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rucial for the maintenance of photoreceptor excitabil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main functions of the RPE are the following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01200" indent="-2563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(1) Transport of nutrients, ions, and water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01200" indent="-2563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(2) absorption of light and protection against photooxidation,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01200" indent="-2563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(3) reisomerization of all-trans-retinal into 11-cis-retinal, which is a key element of the visual cycle,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01200" indent="-2563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(4) phagocytosis of shed photoreceptor membranes, and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01200" indent="-2563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(5) secretion of various essential factors for the structural integrity of the retina.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1:11:05Z</dcterms:created>
  <dc:creator>bhart</dc:creator>
  <dc:description/>
  <dc:language>en-US</dc:language>
  <cp:lastModifiedBy>bhart</cp:lastModifiedBy>
  <dcterms:modified xsi:type="dcterms:W3CDTF">2011-03-23T02:10:45Z</dcterms:modified>
  <cp:revision>27</cp:revision>
  <dc:subject/>
  <dc:title>Jai Mata Di The Mechanism for Defocus-driven Occular Growth</dc:title>
</cp:coreProperties>
</file>